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771-95F5-4CFF-8BC3-76CF5402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746-84E1-42BF-8B71-D1E493E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1B0-1B25-45C3-9B8B-9CC91BDE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3B0-F83C-4425-A439-7A0CB425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48F-8054-45F5-9D58-A27BA978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257-8AD3-4908-95FD-9A7C6D5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627-3C91-48F5-BDE7-1B20EECD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F6A-A0B0-4DBC-8E52-97F1B5B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7B9-811B-41A5-B424-4B28C77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6D6-F09B-48CA-9C44-68A056F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E59-241B-4FFB-94CD-A11A44C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84A-7297-4490-B468-71F5BE4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87B-D9B4-4D1B-9F1E-FDB23A532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i.ce.cn/fashion/mlc/201408/21/W020140821357942478082.jpg"/>
          <p:cNvPicPr/>
          <p:nvPr/>
        </p:nvPicPr>
        <p:blipFill>
          <a:blip r:embed="rId1"/>
          <a:stretch/>
        </p:blipFill>
        <p:spPr>
          <a:xfrm>
            <a:off x="1295280" y="2286000"/>
            <a:ext cx="6677280" cy="4422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143000" y="114300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严也是一种爱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30492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课  我与父母交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676520" y="114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2514600" y="152280"/>
            <a:ext cx="4343400" cy="990720"/>
          </a:xfrm>
          <a:prstGeom prst="ellipse">
            <a:avLst/>
          </a:prstGeom>
          <a:solidFill>
            <a:srgbClr val="fdf1a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743200" y="2286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逆反心理有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600200" y="2209680"/>
            <a:ext cx="5638680" cy="117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要我这样，我偏要那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你说这个好，我非说那个好；让我相信这个，我非相信那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0880" y="1224000"/>
            <a:ext cx="5977080" cy="6433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逆反心理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具体表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http://i4.qhimg.com/t018c8cb0f87d553f99.png"/>
          <p:cNvPicPr/>
          <p:nvPr/>
        </p:nvPicPr>
        <p:blipFill>
          <a:blip r:embed="rId1"/>
          <a:stretch/>
        </p:blipFill>
        <p:spPr>
          <a:xfrm>
            <a:off x="1600200" y="4038480"/>
            <a:ext cx="548640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0840" y="5181480"/>
            <a:ext cx="8763120" cy="582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对于逆反心理和逆反行为，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具体分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不能一概说是错的，有的反抗不无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19200" y="166680"/>
            <a:ext cx="5705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何看待逆反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://y1.ifengimg.com/cmpp/2014/08/14/15/cec7ee95-f963-4e1a-adac-e4bf4065ba73.jpg"/>
          <p:cNvPicPr/>
          <p:nvPr/>
        </p:nvPicPr>
        <p:blipFill>
          <a:blip r:embed="rId1"/>
          <a:stretch/>
        </p:blipFill>
        <p:spPr>
          <a:xfrm>
            <a:off x="228600" y="914400"/>
            <a:ext cx="3276720" cy="408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old.yb983.com/ec/d/file/news/sh/2010-01-29/34743d338a4f7267e8829daffe4ef0f3.jpg"/>
          <p:cNvPicPr/>
          <p:nvPr/>
        </p:nvPicPr>
        <p:blipFill>
          <a:blip r:embed="rId2"/>
          <a:stretch/>
        </p:blipFill>
        <p:spPr>
          <a:xfrm>
            <a:off x="3657600" y="10666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80880" y="4952880"/>
            <a:ext cx="82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朵朵以这样的方式来对待父母，有什么不妥的地方？正确的做法应该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i03.pictn.sogoucdn.com/46d6c2a4710a28ae"/>
          <p:cNvPicPr/>
          <p:nvPr/>
        </p:nvPicPr>
        <p:blipFill>
          <a:blip r:embed="rId1"/>
          <a:stretch/>
        </p:blipFill>
        <p:spPr>
          <a:xfrm>
            <a:off x="838080" y="380880"/>
            <a:ext cx="7077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1371600"/>
            <a:ext cx="8839440" cy="1374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逆反心理的危害：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父母发生冲突，如果以强硬的态度顶撞，以粗暴的举止反抗，或者对他偿不理不睬、冷淡相对，都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错误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会给父母和自己造成极大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多数情况下，逆反心理导致的对父母的反抗，其结果都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惩罚了自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—不是拿自己的错误惩罚自己，就是拿父母的错误惩罚自己。这种结果也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父母的一种伤害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—不是拿自己的错误伤害父母， 就是拿父母的错误伤害父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660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85800" y="29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3048120"/>
            <a:ext cx="8610480" cy="10695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克服逆反心理（怎么办）：为了不伤害自己和自己最亲近的人，就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逆反心理，在情绪冲动时，要努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2133720" y="30492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怎么办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762120"/>
            <a:ext cx="8381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为什么子女与父母之间会产生矛盾？（产生烦恼的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1447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直接原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年龄差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1981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根本原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多重代际差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57200" y="266688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我们应该如何正确认识与父母之间的矛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如何理解严也是一种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228600"/>
            <a:ext cx="7924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成长也会有烦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57200" y="41148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3657600"/>
            <a:ext cx="62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、逆反心理有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7200" y="4724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体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57200" y="571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57200" y="53341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如何正确地认识逆反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7315200" y="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总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imgnews.gmw.cn/attachement/jpg/site2/20160815/5531872380894593932.jpg"/>
          <p:cNvPicPr/>
          <p:nvPr/>
        </p:nvPicPr>
        <p:blipFill>
          <a:blip r:embed="rId1"/>
          <a:stretch/>
        </p:blipFill>
        <p:spPr>
          <a:xfrm>
            <a:off x="0" y="609480"/>
            <a:ext cx="9090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826920" y="148428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660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457800" y="1295280"/>
            <a:ext cx="70740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产生亲子矛盾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09480" y="2133720"/>
            <a:ext cx="8001000" cy="947880"/>
          </a:xfrm>
          <a:prstGeom prst="rect">
            <a:avLst/>
          </a:prstGeom>
          <a:noFill/>
          <a:ln w="255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进入青春期后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了自己的思想，开始独立行事，渴望从家长那里拿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放证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渴望父母像对待大人那样对待我们，甚至挑战父母的权威。而在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眼里，我们总是长不大的孩子，没有生活经验，没有丰富的阅历，却有自己的主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2971800" y="380880"/>
            <a:ext cx="3809880" cy="762120"/>
          </a:xfrm>
          <a:prstGeom prst="ellipse">
            <a:avLst/>
          </a:prstGeom>
          <a:solidFill>
            <a:srgbClr val="fdf1a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352680" y="4572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、成长也会有烦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11" descr=""/>
          <p:cNvPicPr/>
          <p:nvPr/>
        </p:nvPicPr>
        <p:blipFill>
          <a:blip r:embed="rId1"/>
          <a:stretch/>
        </p:blipFill>
        <p:spPr>
          <a:xfrm>
            <a:off x="835200" y="4943520"/>
            <a:ext cx="2334960" cy="11826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2" descr=""/>
          <p:cNvPicPr/>
          <p:nvPr/>
        </p:nvPicPr>
        <p:blipFill>
          <a:blip r:embed="rId2"/>
          <a:stretch/>
        </p:blipFill>
        <p:spPr>
          <a:xfrm>
            <a:off x="5888160" y="4870440"/>
            <a:ext cx="2334960" cy="1182600"/>
          </a:xfrm>
          <a:prstGeom prst="rect">
            <a:avLst/>
          </a:prstGeom>
          <a:ln w="0">
            <a:noFill/>
          </a:ln>
        </p:spPr>
      </p:pic>
      <p:sp>
        <p:nvSpPr>
          <p:cNvPr id="54" name="左右箭头 13"/>
          <p:cNvSpPr/>
          <p:nvPr/>
        </p:nvSpPr>
        <p:spPr>
          <a:xfrm>
            <a:off x="3048120" y="5334120"/>
            <a:ext cx="2895480" cy="6094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xfsfc.com.cn/userfiles/image/20151223/230950477238b3bb9d0068.jpg"/>
          <p:cNvPicPr/>
          <p:nvPr/>
        </p:nvPicPr>
        <p:blipFill>
          <a:blip r:embed="rId1"/>
          <a:stretch/>
        </p:blipFill>
        <p:spPr>
          <a:xfrm>
            <a:off x="228600" y="228600"/>
            <a:ext cx="5238720" cy="292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jimonet.cc/annex/infonews/main/124/90086/1407395139181originalpic.jpg"/>
          <p:cNvPicPr/>
          <p:nvPr/>
        </p:nvPicPr>
        <p:blipFill>
          <a:blip r:embed="rId2"/>
          <a:stretch/>
        </p:blipFill>
        <p:spPr>
          <a:xfrm>
            <a:off x="4114800" y="342900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791320" y="914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父母读书时的教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09480" y="46483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们现在的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5djiaren.com/uploads/2016-07/23-114336_222.jpg"/>
          <p:cNvPicPr/>
          <p:nvPr/>
        </p:nvPicPr>
        <p:blipFill>
          <a:blip r:embed="rId1"/>
          <a:stretch/>
        </p:blipFill>
        <p:spPr>
          <a:xfrm>
            <a:off x="228600" y="304920"/>
            <a:ext cx="3730680" cy="632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ttp://n.sinaimg.cn/ent/transform/20160727/cYtE-fxuhuma7824168.jpg"/>
          <p:cNvPicPr/>
          <p:nvPr/>
        </p:nvPicPr>
        <p:blipFill>
          <a:blip r:embed="rId2"/>
          <a:stretch/>
        </p:blipFill>
        <p:spPr>
          <a:xfrm>
            <a:off x="4191120" y="1143000"/>
            <a:ext cx="46209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581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我们与父母的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人生经历、生活经验、社会地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对社会规范的熟悉程度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在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生活态度、价值观念、兴趣爱好、行为方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方面难免产生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较大差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://www.yzdsb.com.cn/pic/0/11/15/91/11159135_999664.jpg"/>
          <p:cNvPicPr/>
          <p:nvPr/>
        </p:nvPicPr>
        <p:blipFill>
          <a:blip r:embed="rId1"/>
          <a:stretch/>
        </p:blipFill>
        <p:spPr>
          <a:xfrm>
            <a:off x="533520" y="4572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7400" y="533160"/>
            <a:ext cx="8839080" cy="442116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望子成龙，是天下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父母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同的心愿。我们与父母的冲突，往往基于父母对我们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高期待、严要求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200f2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200f2"/>
                </a:solidFill>
                <a:uFillTx/>
                <a:latin typeface="华文新魏"/>
                <a:ea typeface="华文新魏"/>
              </a:rPr>
              <a:t>怎么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：这种在我们看来有些苛刻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，反映出父母对我们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。我们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理解、体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父母的一片苦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fun.youth.cn/yl24xs/201608/W020160808494066879737.png"/>
          <p:cNvPicPr/>
          <p:nvPr/>
        </p:nvPicPr>
        <p:blipFill>
          <a:blip r:embed="rId1"/>
          <a:stretch/>
        </p:blipFill>
        <p:spPr>
          <a:xfrm>
            <a:off x="4952880" y="2438280"/>
            <a:ext cx="3838680" cy="3990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i3.hexunimg.cn/2014-12-08/171219613.jpg"/>
          <p:cNvPicPr/>
          <p:nvPr/>
        </p:nvPicPr>
        <p:blipFill>
          <a:blip r:embed="rId2"/>
          <a:stretch/>
        </p:blipFill>
        <p:spPr>
          <a:xfrm>
            <a:off x="457200" y="2286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3T14:46:13Z</dcterms:created>
  <dc:creator/>
  <dc:description/>
  <cp:keywords/>
  <dc:language>en-US</dc:language>
  <cp:lastModifiedBy>Administrator</cp:lastModifiedBy>
  <dcterms:modified xsi:type="dcterms:W3CDTF">2016-09-21T02:56:01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7</vt:lpwstr>
  </property>
  <property fmtid="{D5CDD505-2E9C-101B-9397-08002B2CF9AE}" pid="3" name="Version">
    <vt:r8>1</vt:r8>
  </property>
</Properties>
</file>